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F5CC-5899-47A0-9AEE-2BA07F515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7094-062F-4946-AAD1-4F1E47FA5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C41F-F3B9-422B-AE26-2418825B3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EF6E-BDAD-4C9B-B043-A69D244DBF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DE39-3300-43F3-8038-3AB5EF97A4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CA69-D06B-4649-B446-0E385803E60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44EF-9903-466C-8AFC-D8FF130AC75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25E0-17F1-4FD0-8AF9-5224DCC2D47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1DBF-4BC7-4E38-9B4D-5CF99CBA478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1437-DFB1-49C1-A5AB-24703DEB3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46C2-7C82-436B-AC43-AE7081079B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48A5-BB8F-436B-8821-B78B7E646F0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2603-944D-42A5-9DCC-16D9488B13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C387-BD11-4D0B-85F6-B3A2B39519D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FF34-605D-4C7B-B219-55AD0CFACF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72D1-75C3-48B5-B834-1B9A09E0FB4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3F9E-F6B6-404C-B32F-122F286705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6AAE-03A0-4C20-8165-2FBFD045F8A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0535-9C9E-4672-905B-1562718035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7E5A-D298-4E29-81E8-7872C14958F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355E-C49C-4896-9FC4-4D7F03598DE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CD49-78B1-4536-B406-0BF87337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6C32-CC11-46E9-860C-378720ED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5A23-638E-4B57-99CB-89B5AE400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1648-5534-4845-B521-FC5C81536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0259-85BE-4755-BA75-5351CF77D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D6AA-5DFB-43D4-BFF3-D2DEF6CD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5D82-08A2-490F-94F9-0C0B4CBA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CA1B-456E-4643-B3F9-DAEFEE95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47DC-57D6-4A93-B5E4-D03749AF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D888-EBD4-4879-9C0A-F51710BB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0E19-338E-4969-8912-987CC16F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045C-FA5C-42EE-AB40-CEB16B53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BF29-1DDB-4C96-BFF8-BD85EF08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6594-1147-4EA4-9DB0-652D3B7F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F8FA-6090-4ED7-A565-CA45CBD7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90B2-F02F-4ACE-9A8E-CF10A7B7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1AB2-2D14-4638-BB8A-0D4F8DA1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E45E-EB6B-40BF-B78E-0BC761CF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545D-D12D-423E-B6FF-1F7C0825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9C4B-26E2-4102-B802-6AC9AEC8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A235-DA08-4EC9-A7F1-00C92C1B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11F1-426C-4BFC-AFA1-85B3620D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1922-F85C-4E6C-B413-EF940890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6E61-159D-41F1-BB71-474F7656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7257-6BEF-4D8F-96FB-0D8D5227C7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D114-592C-4573-B962-CAC27C8CE0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3suisses.fr/FrontOfficePortail/FicheProduit/10908/59354_LR_4_10369___.html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3suisses.fr/FrontOfficePortail/FicheProduit/11421/55341_LR__10369___.html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Espaces 6 B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s vêtements très ch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cabulai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60955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mens_italian_suit"/>
          <p:cNvPicPr/>
          <p:nvPr/>
        </p:nvPicPr>
        <p:blipFill>
          <a:blip r:embed="rId1"/>
          <a:stretch/>
        </p:blipFill>
        <p:spPr>
          <a:xfrm>
            <a:off x="3286080" y="1600200"/>
            <a:ext cx="2428920" cy="44956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533520" y="1447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04920" y="5181480"/>
            <a:ext cx="86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ff"/>
                </a:solidFill>
                <a:latin typeface="Berlin Sans FB Demi"/>
              </a:rPr>
              <a:t>un blous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33520" y="1447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4337752825_73b57d7423_m.jpg"/>
          <p:cNvPicPr/>
          <p:nvPr/>
        </p:nvPicPr>
        <p:blipFill>
          <a:blip r:embed="rId1"/>
          <a:stretch/>
        </p:blipFill>
        <p:spPr>
          <a:xfrm>
            <a:off x="3048120" y="228600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04920" y="5029200"/>
            <a:ext cx="86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6000" spc="-1" strike="noStrike">
                <a:solidFill>
                  <a:srgbClr val="9999ff"/>
                </a:solidFill>
                <a:latin typeface="Berlin Sans FB Demi"/>
              </a:rPr>
              <a:t>une cravate ble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533520" y="144792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155520" y="-555480"/>
            <a:ext cx="8193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http://www.striped-neckties.com/wordpress/wp-content/uploads/2008/05/italian-striped-silk-tie.jpg"/>
          <p:cNvPicPr/>
          <p:nvPr/>
        </p:nvPicPr>
        <p:blipFill>
          <a:blip r:embed="rId1"/>
          <a:stretch/>
        </p:blipFill>
        <p:spPr>
          <a:xfrm>
            <a:off x="2971800" y="228600"/>
            <a:ext cx="3581280" cy="509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04920" y="518148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99ff"/>
                </a:solidFill>
                <a:latin typeface="Berlin Sans FB Demi"/>
              </a:rPr>
              <a:t>un jean bleu fonc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533520" y="14479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A0891"/>
          <p:cNvPicPr/>
          <p:nvPr/>
        </p:nvPicPr>
        <p:blipFill>
          <a:blip r:embed="rId1"/>
          <a:stretch/>
        </p:blipFill>
        <p:spPr>
          <a:xfrm>
            <a:off x="2987640" y="228600"/>
            <a:ext cx="3413160" cy="48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685800" y="548640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images-1.jpeg"/>
          <p:cNvPicPr/>
          <p:nvPr/>
        </p:nvPicPr>
        <p:blipFill>
          <a:blip r:embed="rId1"/>
          <a:stretch/>
        </p:blipFill>
        <p:spPr>
          <a:xfrm>
            <a:off x="3200400" y="2362320"/>
            <a:ext cx="200664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4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685800" y="548640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taille-Madeleine-manteau-Medium-191753_L.jpg"/>
          <p:cNvPicPr/>
          <p:nvPr/>
        </p:nvPicPr>
        <p:blipFill>
          <a:blip r:embed="rId1"/>
          <a:stretch/>
        </p:blipFill>
        <p:spPr>
          <a:xfrm>
            <a:off x="3048120" y="1371600"/>
            <a:ext cx="2460600" cy="3780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533520" y="14479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13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03118"/>
          <p:cNvPicPr/>
          <p:nvPr/>
        </p:nvPicPr>
        <p:blipFill>
          <a:blip r:embed="rId1"/>
          <a:stretch/>
        </p:blipFill>
        <p:spPr>
          <a:xfrm>
            <a:off x="2057400" y="9288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2"/>
          <p:cNvSpPr/>
          <p:nvPr/>
        </p:nvSpPr>
        <p:spPr>
          <a:xfrm>
            <a:off x="685800" y="548640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14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5" descr="59035"/>
          <p:cNvPicPr/>
          <p:nvPr/>
        </p:nvPicPr>
        <p:blipFill>
          <a:blip r:embed="rId1"/>
          <a:stretch/>
        </p:blipFill>
        <p:spPr>
          <a:xfrm>
            <a:off x="2362320" y="12193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"/>
          <p:cNvSpPr/>
          <p:nvPr/>
        </p:nvSpPr>
        <p:spPr>
          <a:xfrm>
            <a:off x="685800" y="548640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5800" y="5486400"/>
            <a:ext cx="77724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1" descr="59006"/>
          <p:cNvPicPr/>
          <p:nvPr/>
        </p:nvPicPr>
        <p:blipFill>
          <a:blip r:embed="rId1"/>
          <a:stretch/>
        </p:blipFill>
        <p:spPr>
          <a:xfrm>
            <a:off x="380880" y="1523880"/>
            <a:ext cx="4067280" cy="4067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3" descr="5935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152388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533520" y="14479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16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50126"/>
          <p:cNvPicPr/>
          <p:nvPr/>
        </p:nvPicPr>
        <p:blipFill>
          <a:blip r:embed="rId1"/>
          <a:stretch/>
        </p:blipFill>
        <p:spPr>
          <a:xfrm>
            <a:off x="2209680" y="91440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chaussettes-tuyaux.jpg"/>
          <p:cNvPicPr/>
          <p:nvPr/>
        </p:nvPicPr>
        <p:blipFill>
          <a:blip r:embed="rId2"/>
          <a:stretch/>
        </p:blipFill>
        <p:spPr>
          <a:xfrm>
            <a:off x="1752480" y="533520"/>
            <a:ext cx="4572000" cy="49114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609480" y="556272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cabulai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6" descr="coco-chanel"/>
          <p:cNvPicPr/>
          <p:nvPr/>
        </p:nvPicPr>
        <p:blipFill>
          <a:blip r:embed="rId1"/>
          <a:stretch/>
        </p:blipFill>
        <p:spPr>
          <a:xfrm>
            <a:off x="2666880" y="1600200"/>
            <a:ext cx="3492720" cy="44956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60955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’est chic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5486400"/>
            <a:ext cx="7772400" cy="7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52280" y="838080"/>
            <a:ext cx="1295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#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55548"/>
          <p:cNvPicPr/>
          <p:nvPr/>
        </p:nvPicPr>
        <p:blipFill>
          <a:blip r:embed="rId1"/>
          <a:stretch/>
        </p:blipFill>
        <p:spPr>
          <a:xfrm>
            <a:off x="762120" y="1676520"/>
            <a:ext cx="3686040" cy="3686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5534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16765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533520" y="144792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 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071106_kcole_02c"/>
          <p:cNvPicPr/>
          <p:nvPr/>
        </p:nvPicPr>
        <p:blipFill>
          <a:blip r:embed="rId1"/>
          <a:stretch/>
        </p:blipFill>
        <p:spPr>
          <a:xfrm>
            <a:off x="1828800" y="22860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071106_kcole_02c"/>
          <p:cNvPicPr/>
          <p:nvPr/>
        </p:nvPicPr>
        <p:blipFill>
          <a:blip r:embed="rId2"/>
          <a:stretch/>
        </p:blipFill>
        <p:spPr>
          <a:xfrm>
            <a:off x="4800600" y="220968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"/>
          <p:cNvSpPr/>
          <p:nvPr/>
        </p:nvSpPr>
        <p:spPr>
          <a:xfrm>
            <a:off x="762120" y="449568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ff"/>
                </a:solidFill>
                <a:latin typeface="Berlin Sans FB Demi"/>
              </a:rPr>
              <a:t>des chaussur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 19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25447"/>
          <p:cNvPicPr/>
          <p:nvPr/>
        </p:nvPicPr>
        <p:blipFill>
          <a:blip r:embed="rId1"/>
          <a:stretch/>
        </p:blipFill>
        <p:spPr>
          <a:xfrm>
            <a:off x="1523880" y="2085840"/>
            <a:ext cx="2895840" cy="28958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04235"/>
          <p:cNvPicPr/>
          <p:nvPr/>
        </p:nvPicPr>
        <p:blipFill>
          <a:blip r:embed="rId2"/>
          <a:stretch/>
        </p:blipFill>
        <p:spPr>
          <a:xfrm>
            <a:off x="4800600" y="2057400"/>
            <a:ext cx="2909880" cy="29098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685800" y="548640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 2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685800" y="548640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citizens_of_humanity_portrait_galeria.jpg"/>
          <p:cNvPicPr/>
          <p:nvPr/>
        </p:nvPicPr>
        <p:blipFill>
          <a:blip r:embed="rId1"/>
          <a:stretch/>
        </p:blipFill>
        <p:spPr>
          <a:xfrm>
            <a:off x="2587680" y="473040"/>
            <a:ext cx="347976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 2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50126"/>
          <p:cNvPicPr/>
          <p:nvPr/>
        </p:nvPicPr>
        <p:blipFill>
          <a:blip r:embed="rId1"/>
          <a:stretch/>
        </p:blipFill>
        <p:spPr>
          <a:xfrm>
            <a:off x="2209680" y="9144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"/>
          <p:cNvSpPr/>
          <p:nvPr/>
        </p:nvSpPr>
        <p:spPr>
          <a:xfrm>
            <a:off x="685800" y="548640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1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685800" y="548640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ceinture en cuir.jpg"/>
          <p:cNvPicPr/>
          <p:nvPr/>
        </p:nvPicPr>
        <p:blipFill>
          <a:blip r:embed="rId1"/>
          <a:stretch/>
        </p:blipFill>
        <p:spPr>
          <a:xfrm>
            <a:off x="1143000" y="914400"/>
            <a:ext cx="63500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 2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609480" y="556272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beatrice_eugenie hats.jpg"/>
          <p:cNvPicPr/>
          <p:nvPr/>
        </p:nvPicPr>
        <p:blipFill>
          <a:blip r:embed="rId1"/>
          <a:stretch/>
        </p:blipFill>
        <p:spPr>
          <a:xfrm>
            <a:off x="1828800" y="838080"/>
            <a:ext cx="496728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 23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609480" y="556272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sac-a-main-Louis-Vuitton.jpg"/>
          <p:cNvPicPr/>
          <p:nvPr/>
        </p:nvPicPr>
        <p:blipFill>
          <a:blip r:embed="rId1"/>
          <a:stretch/>
        </p:blipFill>
        <p:spPr>
          <a:xfrm>
            <a:off x="1854360" y="1211400"/>
            <a:ext cx="444492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 24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609480" y="556272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00F2015601876298-photo-casquette-mlb-cortland-bleue.jpg"/>
          <p:cNvPicPr/>
          <p:nvPr/>
        </p:nvPicPr>
        <p:blipFill>
          <a:blip r:embed="rId1"/>
          <a:stretch/>
        </p:blipFill>
        <p:spPr>
          <a:xfrm>
            <a:off x="2955960" y="1322280"/>
            <a:ext cx="311796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 25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609480" y="556272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images.jpeg"/>
          <p:cNvPicPr/>
          <p:nvPr/>
        </p:nvPicPr>
        <p:blipFill>
          <a:blip r:embed="rId1"/>
          <a:stretch/>
        </p:blipFill>
        <p:spPr>
          <a:xfrm>
            <a:off x="1911240" y="1776240"/>
            <a:ext cx="4267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0" descr="mini-AnneMarie"/>
          <p:cNvPicPr/>
          <p:nvPr/>
        </p:nvPicPr>
        <p:blipFill>
          <a:blip r:embed="rId1"/>
          <a:stretch/>
        </p:blipFill>
        <p:spPr>
          <a:xfrm>
            <a:off x="3276720" y="380880"/>
            <a:ext cx="2619360" cy="47628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1"/>
          <p:cNvSpPr/>
          <p:nvPr/>
        </p:nvSpPr>
        <p:spPr>
          <a:xfrm>
            <a:off x="533520" y="1447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1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685800" y="1981080"/>
            <a:ext cx="77724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er bie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go with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609480" y="3808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-ce que cela va bien ensemble?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14722.jpg"/>
          <p:cNvPicPr/>
          <p:nvPr/>
        </p:nvPicPr>
        <p:blipFill>
          <a:blip r:embed="rId1"/>
          <a:stretch/>
        </p:blipFill>
        <p:spPr>
          <a:xfrm>
            <a:off x="5562720" y="4191120"/>
            <a:ext cx="1617480" cy="1714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unnamed.jpg"/>
          <p:cNvPicPr/>
          <p:nvPr/>
        </p:nvPicPr>
        <p:blipFill>
          <a:blip r:embed="rId2"/>
          <a:stretch/>
        </p:blipFill>
        <p:spPr>
          <a:xfrm>
            <a:off x="5029200" y="1828800"/>
            <a:ext cx="271764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1"/>
          <p:cNvSpPr/>
          <p:nvPr/>
        </p:nvSpPr>
        <p:spPr>
          <a:xfrm>
            <a:off x="533520" y="1447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2215401310_5671bc38c9_o.jpg"/>
          <p:cNvPicPr/>
          <p:nvPr/>
        </p:nvPicPr>
        <p:blipFill>
          <a:blip r:embed="rId1"/>
          <a:stretch/>
        </p:blipFill>
        <p:spPr>
          <a:xfrm>
            <a:off x="2438280" y="660240"/>
            <a:ext cx="3683160" cy="469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1"/>
          <p:cNvSpPr/>
          <p:nvPr/>
        </p:nvSpPr>
        <p:spPr>
          <a:xfrm>
            <a:off x="533520" y="1447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elle.jpg"/>
          <p:cNvPicPr/>
          <p:nvPr/>
        </p:nvPicPr>
        <p:blipFill>
          <a:blip r:embed="rId1"/>
          <a:stretch/>
        </p:blipFill>
        <p:spPr>
          <a:xfrm>
            <a:off x="2046240" y="490680"/>
            <a:ext cx="3873600" cy="49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533520" y="1447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white-chekcer-pant"/>
          <p:cNvPicPr/>
          <p:nvPr/>
        </p:nvPicPr>
        <p:blipFill>
          <a:blip r:embed="rId1"/>
          <a:stretch/>
        </p:blipFill>
        <p:spPr>
          <a:xfrm>
            <a:off x="3429000" y="947880"/>
            <a:ext cx="3048120" cy="43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533520" y="1447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chemise-topshop.jpg"/>
          <p:cNvPicPr/>
          <p:nvPr/>
        </p:nvPicPr>
        <p:blipFill>
          <a:blip r:embed="rId1"/>
          <a:stretch/>
        </p:blipFill>
        <p:spPr>
          <a:xfrm>
            <a:off x="2743200" y="1143000"/>
            <a:ext cx="3263760" cy="410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533520" y="1447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http://guestofaguest.com/wp-content/uploads/2009/01/suspenders.jpg"/>
          <p:cNvPicPr/>
          <p:nvPr/>
        </p:nvPicPr>
        <p:blipFill>
          <a:blip r:embed="rId1"/>
          <a:stretch/>
        </p:blipFill>
        <p:spPr>
          <a:xfrm>
            <a:off x="2743200" y="0"/>
            <a:ext cx="3733920" cy="497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Work-Shirt-Short-Sleeve"/>
          <p:cNvPicPr/>
          <p:nvPr/>
        </p:nvPicPr>
        <p:blipFill>
          <a:blip r:embed="rId1"/>
          <a:stretch/>
        </p:blipFill>
        <p:spPr>
          <a:xfrm>
            <a:off x="1752480" y="228600"/>
            <a:ext cx="5486400" cy="46958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533520" y="1447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22:15:10Z</dcterms:created>
  <dc:creator>mgrasso2</dc:creator>
  <dc:description/>
  <dc:language>en-US</dc:language>
  <cp:lastModifiedBy>Viviane Grebert</cp:lastModifiedBy>
  <cp:lastPrinted>2011-11-09T23:07:19Z</cp:lastPrinted>
  <dcterms:modified xsi:type="dcterms:W3CDTF">2011-11-09T23:07:56Z</dcterms:modified>
  <cp:revision>29</cp:revision>
  <dc:subject/>
  <dc:title>Slide 1</dc:title>
</cp:coreProperties>
</file>